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40B-2C44-467D-AA78-A99DC283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BC31-FC9E-4093-8EC5-8C73DDCE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880-2FE7-4171-9D54-7132B05ED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6AAB-3B50-4285-AC64-11C9C22A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53B-BEFE-4391-80D2-E2AA9BF5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EDD-1277-4064-8251-CBF0E897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D14-3C6C-4503-997C-ECF03376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763-586B-4085-9F0F-1EFE7D0A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3C4-248D-4A0F-BBA8-6DFB3D0E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85D-5987-4426-83C2-FC87006C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104-973E-45FD-94FC-AE5B4510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F77-8E95-4CDE-AEC2-A72B2B12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C598-D72C-4FFF-AAF5-4690FB593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/Vocabulary/Math Exercise</a:t>
            </a: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these prefixes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 the prefixes on your paper with the meanings on the following slide. (Each meaning is used once, but some prefixes mean the same thing. Example: More than one prefix mean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rning Objectives for this exerc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s will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/or refine AIMS reading and math skill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/reviewing the meanings of various pre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/reviewing examples of words created with prefi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and calculating possible word comb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skills include: application, analysis and synthesis of vocabulary and math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ix mea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d/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/be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r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er/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o m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pe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/away fr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yond before/in front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yo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/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ove/carry 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/gu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6:39:45Z</dcterms:created>
  <dc:creator>ASD</dc:creator>
  <dc:description/>
  <dc:language>en-US</dc:language>
  <cp:lastModifiedBy>ASD</cp:lastModifiedBy>
  <dcterms:modified xsi:type="dcterms:W3CDTF">2011-05-31T19:07:36Z</dcterms:modified>
  <cp:revision>4</cp:revision>
  <dc:subject/>
  <dc:title>What do these prefixes mean?</dc:title>
</cp:coreProperties>
</file>